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Earth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819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hapter 11, Sec. 1 </a:t>
            </a:r>
            <a:r>
              <a:rPr b="0" i="1" lang="en-US" sz="3200" spc="-1" strike="noStrike">
                <a:solidFill>
                  <a:srgbClr val="ecca22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d1d1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93640" y="167652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C. Earth is a round, three-dimensional object and casts a curved shadow on the Moon during an eclips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2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3640" y="16765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maginary vertical line around which Earth spins is its __________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09480" y="329256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ax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ellips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longitud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eridia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93640" y="1523880"/>
            <a:ext cx="268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A. This line cuts directly through the center of Eart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6" descr="im06 earth's axis"/>
          <p:cNvPicPr/>
          <p:nvPr/>
        </p:nvPicPr>
        <p:blipFill>
          <a:blip r:embed="rId1"/>
          <a:stretch/>
        </p:blipFill>
        <p:spPr>
          <a:xfrm>
            <a:off x="3324240" y="1430280"/>
            <a:ext cx="5181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3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93640" y="1676520"/>
            <a:ext cx="794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inning of Earth on its axis is its __________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09480" y="329256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equinox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orb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evolu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ro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93640" y="1523880"/>
            <a:ext cx="69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 is D. One complete rotation takes 24 hour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Radiation from the Su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644400" y="1352520"/>
            <a:ext cx="789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tilt also causes the Sun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radiation to strike the hemispheres at different angle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Text Box 6"/>
          <p:cNvSpPr/>
          <p:nvPr/>
        </p:nvSpPr>
        <p:spPr>
          <a:xfrm>
            <a:off x="650880" y="2460600"/>
            <a:ext cx="78836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nlight strikes the hemisphere tilted towards the Sun at a higher angle, closer to 90 degrees (higher energy - Summer), than the hemisphere tilted away (lesser energy - Winter)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stic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44400" y="1219320"/>
            <a:ext cx="766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solst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the day when the Sun reaches its greatest distance north or south of the equato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44400" y="2610000"/>
            <a:ext cx="400392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northern hemisphere, the summer solstice occurs on June 21 or 22, and the winter solstice occurs on December 21 or 22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10" descr="im20"/>
          <p:cNvPicPr/>
          <p:nvPr/>
        </p:nvPicPr>
        <p:blipFill>
          <a:blip r:embed="rId1"/>
          <a:stretch/>
        </p:blipFill>
        <p:spPr>
          <a:xfrm>
            <a:off x="4572000" y="2362320"/>
            <a:ext cx="41148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"/>
          <p:cNvSpPr/>
          <p:nvPr/>
        </p:nvSpPr>
        <p:spPr>
          <a:xfrm>
            <a:off x="650880" y="5410080"/>
            <a:ext cx="7655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he hours of daylight increase agai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Solstic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44400" y="1203480"/>
            <a:ext cx="7661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outhern hemisphere, the winter solstice is in June, and the summer solstice is in Decemb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44400" y="2593800"/>
            <a:ext cx="7883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 solstice is about the longest period of daylight of the year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50880" y="3565440"/>
            <a:ext cx="76550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is, the number of daylight hours become less and less, until the winter solstice, about the shortest period of daylight of the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50880" y="4952880"/>
            <a:ext cx="7655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an equinox the Sun strikes the equator at the highest possible angle, 90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quinox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4400" y="1203480"/>
            <a:ext cx="796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equino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when the Sun is directly above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equato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44400" y="2174760"/>
            <a:ext cx="78836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 of the tilt of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axis, the Sun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position relative to the equator changes constantly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0880" y="356544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imes each year the Sun is directly over the equator, resulting in the spring and fall equinoxe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quinox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44400" y="1671480"/>
            <a:ext cx="796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an equinox, the number of daylight hours and nighttime hours is nearly equal all over the world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50880" y="357516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at this time, neither the northern hemisphere nor the southern hemisphere is tilted toward the Su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quinox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44400" y="1636560"/>
            <a:ext cx="7813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northern hemisphere, the Sun reaches the spring equinox on March 20 or 21, and the fall equinox occurs on September 22    or 23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50880" y="392760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southern hemisphere, the equinoxes are reversed. Spring occurs in September and fall occurs in March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93720" y="633240"/>
            <a:ext cx="6788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Earth Data Review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44400" y="1679400"/>
            <a:ext cx="796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th is a sphere that rotates on a tilted axi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50880" y="2751120"/>
            <a:ext cx="765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rotation causes day and night. Earth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tilted axis and its revolution around the Sun cause the season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50880" y="4651200"/>
            <a:ext cx="7655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Earth revolution takes one yea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349056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term describes the shape of Earth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609480" y="3048120"/>
            <a:ext cx="7940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ax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. ellips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spher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waxing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9:51:36Z</dcterms:created>
  <dc:creator>Cherie Hatton</dc:creator>
  <dc:description/>
  <dc:language>en-US</dc:language>
  <cp:lastModifiedBy>St. Aloysius</cp:lastModifiedBy>
  <dcterms:modified xsi:type="dcterms:W3CDTF">2013-11-06T18:31:31Z</dcterms:modified>
  <cp:revision>496</cp:revision>
  <dc:subject/>
  <dc:title>Slide 1</dc:title>
</cp:coreProperties>
</file>